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6C7-23A7-408E-A184-16412178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7A-C905-4D2F-9168-3D96080E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232-DBD9-426D-9250-1E0689CB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9A9-F13A-41C1-8E5B-F84E4D9C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1D8-85C8-4BDF-8A51-421C1B4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69B-0D58-4D7F-94C2-16E4977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A92-4C73-4F48-BEA8-76CADD6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771-3055-406B-A83E-7F82B39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448-77BF-434A-A367-47D192E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2CC-F1BD-404E-AE3D-2FC31BE3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DB0-BB65-4FF9-BB7B-093EFBC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88A-78F1-4479-9FD0-4854312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58E2-96C2-4873-A0EA-1D004F5C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__  Clase 6NH (601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4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699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1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Te gusta mas jugar o dor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full Spanish sentences, Write 2 things that you like and 2 things that you dis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un compañero, 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1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19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at least 5 sentences in your note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p. 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51:34Z</dcterms:created>
  <dc:creator>Helen Zumaeta</dc:creator>
  <dc:description/>
  <dc:language>en-US</dc:language>
  <cp:lastModifiedBy>Helen Zumaeta</cp:lastModifiedBy>
  <cp:lastPrinted>2013-03-04T17:38:50Z</cp:lastPrinted>
  <dcterms:modified xsi:type="dcterms:W3CDTF">2013-03-04T18:40:36Z</dcterms:modified>
  <cp:revision>15</cp:revision>
  <dc:subject/>
  <dc:title>Me llamo __________    Clase 7 IM La fecha es el 28 de enero del 2011</dc:title>
</cp:coreProperties>
</file>